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BA1-47FC-4970-AA56-2BB71A27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8F9-23D0-4B4F-8902-58D69988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3E0-3B0B-42B0-B9B1-BDBE37D8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E4A-B1B9-4D9C-B690-2696BBFF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253-B658-490D-8028-1CEF8A97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4BF-2BF6-4DB0-A9D2-5C8543D5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2CD-84AD-46C3-B133-CE99CA9D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D27-71E3-4097-A273-42AE760C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32A-5E85-4C05-AF0A-8452DD63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478-F68D-46FB-803C-5FA1FD9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7AB-5FF5-4028-A099-E55B8303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55A-779A-41D9-8574-2162FB75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4264-6BC4-4164-A1C8-0520CEA2B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27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846600" y="23504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886200" y="36457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897720" y="30362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989640"/>
            <a:ext cx="83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3168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 =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701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  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 =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235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 =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3397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930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44528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3168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7018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4235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6 + 90 + 70 = 2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35440" y="4952880"/>
            <a:ext cx="44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the areas of each 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286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038320" cy="15908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1087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Method 1: Use a 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5181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raw a net to help you see each face of the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715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Use the formula A = lw to find the area of each 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476520"/>
            <a:ext cx="97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38257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2266920" cy="1104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8120" y="34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81480" y="2286000"/>
            <a:ext cx="2895840" cy="2666880"/>
            <a:chOff x="5181480" y="2286000"/>
            <a:chExt cx="2895840" cy="2666880"/>
          </a:xfrm>
        </p:grpSpPr>
        <p:sp>
          <p:nvSpPr>
            <p:cNvPr id="156" name=""/>
            <p:cNvSpPr/>
            <p:nvPr/>
          </p:nvSpPr>
          <p:spPr>
            <a:xfrm>
              <a:off x="5181480" y="2743200"/>
              <a:ext cx="99072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9400" y="2743200"/>
              <a:ext cx="99072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72200" y="2743200"/>
              <a:ext cx="45720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2743200"/>
              <a:ext cx="45720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29400" y="2286000"/>
              <a:ext cx="990720" cy="45720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29400" y="4495680"/>
              <a:ext cx="990720" cy="45720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19112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65840" y="2698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9200" y="228600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44956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72240" y="271476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76800" y="2679840"/>
            <a:ext cx="7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2301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00640" y="4054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343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644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62760" y="4540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1065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9051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438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6 =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971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=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50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6 =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4038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=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572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5454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8 + 66 + 33 + 66 + 33 + 18 = 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58960" y="4930920"/>
            <a:ext cx="5465520" cy="535680"/>
            <a:chOff x="858960" y="4930920"/>
            <a:chExt cx="5465520" cy="535680"/>
          </a:xfrm>
        </p:grpSpPr>
        <p:sp>
          <p:nvSpPr>
            <p:cNvPr id="190" name=""/>
            <p:cNvSpPr/>
            <p:nvPr/>
          </p:nvSpPr>
          <p:spPr>
            <a:xfrm>
              <a:off x="858960" y="5006880"/>
              <a:ext cx="54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Add the areas of each f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10400" y="4930920"/>
              <a:ext cx="28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838080" y="59324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234 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334120" y="2209680"/>
            <a:ext cx="2895120" cy="2666880"/>
            <a:chOff x="5334120" y="2209680"/>
            <a:chExt cx="2895120" cy="2666880"/>
          </a:xfrm>
        </p:grpSpPr>
        <p:sp>
          <p:nvSpPr>
            <p:cNvPr id="194" name=""/>
            <p:cNvSpPr/>
            <p:nvPr/>
          </p:nvSpPr>
          <p:spPr>
            <a:xfrm>
              <a:off x="5334120" y="2666880"/>
              <a:ext cx="99036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81680" y="2666880"/>
              <a:ext cx="99036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24480" y="2666880"/>
              <a:ext cx="45684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72400" y="2666880"/>
              <a:ext cx="456840" cy="175248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1680" y="2209680"/>
              <a:ext cx="990360" cy="45720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1680" y="4419360"/>
              <a:ext cx="990360" cy="457200"/>
            </a:xfrm>
            <a:prstGeom prst="rect">
              <a:avLst/>
            </a:prstGeom>
            <a:solidFill>
              <a:srgbClr val="fcd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343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2666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18480" y="2622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91480" y="22096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44197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24880" y="2638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29440" y="2603520"/>
            <a:ext cx="76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222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53280" y="3978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6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15040" y="4464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79440" y="1163520"/>
            <a:ext cx="8307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each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Method 2: Use a three-dimensional dra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3520" y="5121360"/>
            <a:ext cx="8000640" cy="901800"/>
            <a:chOff x="533520" y="5121360"/>
            <a:chExt cx="8000640" cy="901800"/>
          </a:xfrm>
        </p:grpSpPr>
        <p:sp>
          <p:nvSpPr>
            <p:cNvPr id="221" name=""/>
            <p:cNvSpPr/>
            <p:nvPr/>
          </p:nvSpPr>
          <p:spPr>
            <a:xfrm>
              <a:off x="533520" y="5197680"/>
              <a:ext cx="80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Find the area of the front, top, and side, and multiply each by 2 to include the opposite fac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82120" y="5121360"/>
              <a:ext cx="410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505320" y="3016080"/>
            <a:ext cx="1676160" cy="1400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352680" y="4311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4235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3701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02040" y="3016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3321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79440" y="1141920"/>
            <a:ext cx="83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 =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038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  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6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457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  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6 =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3733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38480" y="47894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3505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4038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4572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0 + 120 + 96 = 3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410080"/>
            <a:ext cx="44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the areas of each 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5943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376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1676520" cy="1400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200400" y="304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49760" y="1752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00400" y="2165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167652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rface area of a pyramid equals the sum of the area of the base and the areas of the triangular faces. To find the surface area of a pyramid, think of its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79440" y="908640"/>
            <a:ext cx="8307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Finding the Surface Area of a Pyram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pyram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22417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rea of square +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rea of triangular 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4562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9 +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0515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9 + 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010280" y="3886200"/>
            <a:ext cx="1905120" cy="536040"/>
            <a:chOff x="7010280" y="3886200"/>
            <a:chExt cx="1905120" cy="536040"/>
          </a:xfrm>
        </p:grpSpPr>
        <p:sp>
          <p:nvSpPr>
            <p:cNvPr id="274" name=""/>
            <p:cNvSpPr/>
            <p:nvPr/>
          </p:nvSpPr>
          <p:spPr>
            <a:xfrm>
              <a:off x="7010280" y="39625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Substitu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736480" y="3886200"/>
              <a:ext cx="9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895480" y="2971800"/>
            <a:ext cx="3657600" cy="840600"/>
            <a:chOff x="2895480" y="2971800"/>
            <a:chExt cx="3657600" cy="840600"/>
          </a:xfrm>
        </p:grpSpPr>
        <p:grpSp>
          <p:nvGrpSpPr>
            <p:cNvPr id="277" name=""/>
            <p:cNvGrpSpPr/>
            <p:nvPr/>
          </p:nvGrpSpPr>
          <p:grpSpPr>
            <a:xfrm>
              <a:off x="2895480" y="3081240"/>
              <a:ext cx="3657600" cy="524880"/>
              <a:chOff x="2895480" y="3081240"/>
              <a:chExt cx="3657600" cy="524880"/>
            </a:xfrm>
          </p:grpSpPr>
          <p:sp>
            <p:nvSpPr>
              <p:cNvPr id="278" name=""/>
              <p:cNvSpPr/>
              <p:nvPr/>
            </p:nvSpPr>
            <p:spPr>
              <a:xfrm>
                <a:off x="2895480" y="3146400"/>
                <a:ext cx="365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+ 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(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b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)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44720" y="3081240"/>
                <a:ext cx="381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018040" y="2971800"/>
              <a:ext cx="685800" cy="840600"/>
              <a:chOff x="5018040" y="2971800"/>
              <a:chExt cx="685800" cy="840600"/>
            </a:xfrm>
          </p:grpSpPr>
          <p:sp>
            <p:nvSpPr>
              <p:cNvPr id="281" name=""/>
              <p:cNvSpPr/>
              <p:nvPr/>
            </p:nvSpPr>
            <p:spPr>
              <a:xfrm>
                <a:off x="509436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94360" y="3352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18040" y="30272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__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2895480" y="3767040"/>
            <a:ext cx="4190760" cy="840960"/>
            <a:chOff x="2895480" y="3767040"/>
            <a:chExt cx="4190760" cy="840960"/>
          </a:xfrm>
        </p:grpSpPr>
        <p:grpSp>
          <p:nvGrpSpPr>
            <p:cNvPr id="285" name=""/>
            <p:cNvGrpSpPr/>
            <p:nvPr/>
          </p:nvGrpSpPr>
          <p:grpSpPr>
            <a:xfrm>
              <a:off x="2895480" y="3865680"/>
              <a:ext cx="4190760" cy="558000"/>
              <a:chOff x="2895480" y="3865680"/>
              <a:chExt cx="4190760" cy="558000"/>
            </a:xfrm>
          </p:grpSpPr>
          <p:sp>
            <p:nvSpPr>
              <p:cNvPr id="286" name=""/>
              <p:cNvSpPr/>
              <p:nvPr/>
            </p:nvSpPr>
            <p:spPr>
              <a:xfrm>
                <a:off x="2895480" y="3963960"/>
                <a:ext cx="419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=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7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+ 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(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7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Verdana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906720" y="3865680"/>
                <a:ext cx="436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105160" y="3767040"/>
              <a:ext cx="685800" cy="840960"/>
              <a:chOff x="5105160" y="3767040"/>
              <a:chExt cx="685800" cy="840960"/>
            </a:xfrm>
          </p:grpSpPr>
          <p:sp>
            <p:nvSpPr>
              <p:cNvPr id="289" name=""/>
              <p:cNvSpPr/>
              <p:nvPr/>
            </p:nvSpPr>
            <p:spPr>
              <a:xfrm>
                <a:off x="5181480" y="3767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181480" y="4148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05160" y="38228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__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2895480" y="5508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5943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161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552320" cy="13906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1923840" cy="1981440"/>
          </a:xfrm>
          <a:prstGeom prst="rect">
            <a:avLst/>
          </a:prstGeom>
          <a:ln w="0">
            <a:noFill/>
          </a:ln>
        </p:spPr>
      </p:pic>
      <p:grpSp>
        <p:nvGrpSpPr>
          <p:cNvPr id="29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79440" y="1091520"/>
            <a:ext cx="8307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pyram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22417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rea of square +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rea of triangular 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95480" y="4562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5 +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95480" y="50515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5 +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010280" y="3886200"/>
            <a:ext cx="1905120" cy="536040"/>
            <a:chOff x="7010280" y="3886200"/>
            <a:chExt cx="1905120" cy="536040"/>
          </a:xfrm>
        </p:grpSpPr>
        <p:sp>
          <p:nvSpPr>
            <p:cNvPr id="307" name=""/>
            <p:cNvSpPr/>
            <p:nvPr/>
          </p:nvSpPr>
          <p:spPr>
            <a:xfrm>
              <a:off x="7010280" y="39625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Substitu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736480" y="3886200"/>
              <a:ext cx="9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895480" y="2971800"/>
            <a:ext cx="3657600" cy="840600"/>
            <a:chOff x="2895480" y="2971800"/>
            <a:chExt cx="3657600" cy="840600"/>
          </a:xfrm>
        </p:grpSpPr>
        <p:grpSp>
          <p:nvGrpSpPr>
            <p:cNvPr id="310" name=""/>
            <p:cNvGrpSpPr/>
            <p:nvPr/>
          </p:nvGrpSpPr>
          <p:grpSpPr>
            <a:xfrm>
              <a:off x="2895480" y="3081240"/>
              <a:ext cx="3657600" cy="524880"/>
              <a:chOff x="2895480" y="3081240"/>
              <a:chExt cx="3657600" cy="524880"/>
            </a:xfrm>
          </p:grpSpPr>
          <p:sp>
            <p:nvSpPr>
              <p:cNvPr id="311" name=""/>
              <p:cNvSpPr/>
              <p:nvPr/>
            </p:nvSpPr>
            <p:spPr>
              <a:xfrm>
                <a:off x="2895480" y="3146400"/>
                <a:ext cx="365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+ 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(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b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)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44720" y="3081240"/>
                <a:ext cx="381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018040" y="2971800"/>
              <a:ext cx="685800" cy="840600"/>
              <a:chOff x="5018040" y="2971800"/>
              <a:chExt cx="685800" cy="840600"/>
            </a:xfrm>
          </p:grpSpPr>
          <p:sp>
            <p:nvSpPr>
              <p:cNvPr id="314" name=""/>
              <p:cNvSpPr/>
              <p:nvPr/>
            </p:nvSpPr>
            <p:spPr>
              <a:xfrm>
                <a:off x="509436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094360" y="3352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18040" y="30272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__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2895480" y="3767040"/>
            <a:ext cx="4571640" cy="817560"/>
            <a:chOff x="2895480" y="3767040"/>
            <a:chExt cx="4571640" cy="817560"/>
          </a:xfrm>
        </p:grpSpPr>
        <p:grpSp>
          <p:nvGrpSpPr>
            <p:cNvPr id="318" name=""/>
            <p:cNvGrpSpPr/>
            <p:nvPr/>
          </p:nvGrpSpPr>
          <p:grpSpPr>
            <a:xfrm>
              <a:off x="2895480" y="3859200"/>
              <a:ext cx="4571640" cy="551880"/>
              <a:chOff x="2895480" y="3859200"/>
              <a:chExt cx="4571640" cy="551880"/>
            </a:xfrm>
          </p:grpSpPr>
          <p:sp>
            <p:nvSpPr>
              <p:cNvPr id="319" name=""/>
              <p:cNvSpPr/>
              <p:nvPr/>
            </p:nvSpPr>
            <p:spPr>
              <a:xfrm>
                <a:off x="2895480" y="3951360"/>
                <a:ext cx="45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=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5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+ 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(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Verdana"/>
                  </a:rPr>
                  <a:t>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998520" y="3859200"/>
                <a:ext cx="47592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105520" y="3767040"/>
              <a:ext cx="747360" cy="817560"/>
              <a:chOff x="5105520" y="3767040"/>
              <a:chExt cx="747360" cy="817560"/>
            </a:xfrm>
          </p:grpSpPr>
          <p:sp>
            <p:nvSpPr>
              <p:cNvPr id="322" name=""/>
              <p:cNvSpPr/>
              <p:nvPr/>
            </p:nvSpPr>
            <p:spPr>
              <a:xfrm>
                <a:off x="5188680" y="376704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88680" y="412488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05520" y="3819240"/>
                <a:ext cx="74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__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2895480" y="5508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5943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125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2362320" cy="17337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28600" y="4019400"/>
            <a:ext cx="2552760" cy="2057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52280" y="2909880"/>
            <a:ext cx="762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3595680"/>
            <a:ext cx="95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47840" y="2819520"/>
            <a:ext cx="1181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43280" y="4267080"/>
            <a:ext cx="1104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20680" y="4770360"/>
            <a:ext cx="663840" cy="398880"/>
          </a:xfrm>
          <a:prstGeom prst="rect">
            <a:avLst/>
          </a:prstGeom>
          <a:solidFill>
            <a:srgbClr val="c3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3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75564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rface area of a cylinder equals the sum of the area of its bases and the area of its curved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831960" y="3430440"/>
            <a:ext cx="7854840" cy="1830960"/>
            <a:chOff x="831960" y="3430440"/>
            <a:chExt cx="7854840" cy="1830960"/>
          </a:xfrm>
        </p:grpSpPr>
        <p:sp>
          <p:nvSpPr>
            <p:cNvPr id="342" name=""/>
            <p:cNvSpPr/>
            <p:nvPr/>
          </p:nvSpPr>
          <p:spPr>
            <a:xfrm>
              <a:off x="838080" y="3887640"/>
              <a:ext cx="7848720" cy="137376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To find the area of the curved surface of a cylinder, multiply its height by the circumference of the bas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1960" y="3430440"/>
              <a:ext cx="2743200" cy="520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79440" y="1001880"/>
            <a:ext cx="8459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Finding the Surface Area of a Cyl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cylinder. Use 3.14 fo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round to the nearest hundre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490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rea of lateral surface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rea of each 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9588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5388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5943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1409760" cy="15620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073240" cy="2124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610080" y="377676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3880"/>
            <a:ext cx="8153280" cy="4419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ntify the figure de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wo parallel congruent faces, with the other faces being parallel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polyhedron that has a vertex and a face at opposite ends, with the other faces being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61160" y="304740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p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93720" y="477144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pyra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79440" y="1184760"/>
            <a:ext cx="845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cylinder. Use 3.14 fo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round to the nearest hundre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473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(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3.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6(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3.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40831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5.12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0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5791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about 276.32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19920" y="3473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Use 3.14 for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616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75.84 + 100.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516096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76.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29512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6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79440" y="1184760"/>
            <a:ext cx="845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cylinder. Use 3.14 fo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round to the nearest hundre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490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rea of lateral surface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rea of each 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5388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943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1409760" cy="15620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073240" cy="2124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906640" y="2908440"/>
            <a:ext cx="1284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05320" y="371808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79440" y="1184760"/>
            <a:ext cx="845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cylinder. Use 3.14 fo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round to the nearest hundre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3473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(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3.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6(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3.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4083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7.68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13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5791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about 565.2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3473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Use 3.14 for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4616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39.12 + 226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516096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6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2951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6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0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1141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1935360"/>
            <a:ext cx="7924680" cy="32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of each figure. Use 3.14 fo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ctangular prism with base length 6 ft, width 5 ft, and height 7 f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ylinder with radius 3 ft and height 7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surface area of the figure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962520" y="3205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14 ft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3856680"/>
            <a:ext cx="18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88.4 ft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90720" y="48549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08 ft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3200400" y="4952880"/>
            <a:ext cx="1962000" cy="15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1600200"/>
            <a:ext cx="792504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figure has the longer side and by how much, a square with an area of 81 f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or a square with perimeter of 84 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quare with a perimeter of 84 ft; by 12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the surface areas of prisms, pyramids, and cylinders</a:t>
            </a:r>
            <a:r>
              <a:rPr b="0" lang="en-US" sz="30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828800"/>
            <a:ext cx="7162920" cy="1523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fac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7608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175248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urface are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solid figure is the sum of the areas of its surfaces. To help you see all the surfaces of a solid figure, you can use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pattern made when the surface of a solid figure is layed out flat showing each face of the fig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9043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Finding the Surface Area of a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the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Method 1: Use a 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181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raw a net to help you see each face of the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5715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Use the formula A = lw to find the area of each 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876760" cy="1257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05520" y="2324160"/>
            <a:ext cx="3286080" cy="27813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13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9051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438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971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50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038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572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410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 + 60 + 24 + 60 + 24 + 10 = 1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58960" y="4930920"/>
            <a:ext cx="5465520" cy="535680"/>
            <a:chOff x="858960" y="4930920"/>
            <a:chExt cx="5465520" cy="535680"/>
          </a:xfrm>
        </p:grpSpPr>
        <p:sp>
          <p:nvSpPr>
            <p:cNvPr id="109" name=""/>
            <p:cNvSpPr/>
            <p:nvPr/>
          </p:nvSpPr>
          <p:spPr>
            <a:xfrm>
              <a:off x="858960" y="5006880"/>
              <a:ext cx="54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Add the areas of each f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10400" y="4930920"/>
              <a:ext cx="28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38080" y="59324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area is 188 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286080" cy="27813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9440" y="980640"/>
            <a:ext cx="8307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Finding the Surface Area of a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urface are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each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Method 2: Use a three-dimensional dra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Find the area of the front, top, and side, and multiply each by 2 to include the opposite 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29908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320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0-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urface 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1:02:53Z</dcterms:created>
  <dc:creator>Laurel Nissen</dc:creator>
  <dc:description/>
  <dc:language>en-US</dc:language>
  <cp:lastModifiedBy>HRW</cp:lastModifiedBy>
  <dcterms:modified xsi:type="dcterms:W3CDTF">2003-04-28T14:25:02Z</dcterms:modified>
  <cp:revision>19</cp:revision>
  <dc:subject/>
  <dc:title>Slide 1</dc:title>
</cp:coreProperties>
</file>